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822320" y="685440"/>
            <a:ext cx="3213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DFE9-9647-4089-8B2D-90941B61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35BC-5BBC-4D9C-929F-126063B9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822320" y="685800"/>
            <a:ext cx="321336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DAD-E6A1-4420-9880-B2A7C295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FD6-01CC-47C2-80F7-FDABDFF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7DC-410A-47A9-BF11-E444C2A2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1124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405680"/>
            <a:ext cx="187668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997-3002-45FD-AF30-C5FC27C0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69A-6378-4A07-A3D1-CD4A8767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BF5-7C3F-441B-8411-0D01E7AE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F5C-EE86-40A9-B63C-E4D29D2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AE4-76F8-436C-9355-6FE6E431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650520"/>
            <a:ext cx="582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777-89FA-4889-8F86-864D519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31F-6A94-4B5A-AC29-8D2C9BF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4056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617-431C-42B7-AB84-C075F48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112480"/>
            <a:ext cx="2844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405680"/>
            <a:ext cx="58291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0A6-264B-4420-A0AC-84E6572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65052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112480"/>
            <a:ext cx="5829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664320"/>
            <a:ext cx="1428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6664320"/>
            <a:ext cx="2171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6664320"/>
            <a:ext cx="1428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4F4-0F85-471F-95A3-B5B88A281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25560" y="165240"/>
          <a:ext cx="6883560" cy="71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65240"/>
                    <a:ext cx="6883560" cy="71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7"/>
          <p:cNvSpPr/>
          <p:nvPr/>
        </p:nvSpPr>
        <p:spPr>
          <a:xfrm>
            <a:off x="5265360" y="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&amp;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992880" y="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Sch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1065960" y="4572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4983840" y="3808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 &amp; -tch /ch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3886560" y="457200"/>
            <a:ext cx="80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53028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615240" y="1828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538920" y="2209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5"/>
          <p:cNvSpPr/>
          <p:nvPr/>
        </p:nvSpPr>
        <p:spPr>
          <a:xfrm>
            <a:off x="615960" y="25146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533520" y="289548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45760" y="3276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4045680" y="15238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9"/>
          <p:cNvSpPr/>
          <p:nvPr/>
        </p:nvSpPr>
        <p:spPr>
          <a:xfrm>
            <a:off x="4114800" y="1828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4047120" y="22096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1"/>
          <p:cNvSpPr/>
          <p:nvPr/>
        </p:nvSpPr>
        <p:spPr>
          <a:xfrm>
            <a:off x="4119840" y="2590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2"/>
          <p:cNvSpPr/>
          <p:nvPr/>
        </p:nvSpPr>
        <p:spPr>
          <a:xfrm>
            <a:off x="4045680" y="28954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457200" y="42670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ad too much to eat at lunch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6"/>
          <p:cNvSpPr/>
          <p:nvPr/>
        </p:nvSpPr>
        <p:spPr>
          <a:xfrm>
            <a:off x="504360" y="4952880"/>
            <a:ext cx="49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thirsty you need t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546840" y="53341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nch your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23640" y="563868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Chewbacca thrown into the ditch?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09480" y="6019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0"/>
          <p:cNvSpPr/>
          <p:nvPr/>
        </p:nvSpPr>
        <p:spPr>
          <a:xfrm>
            <a:off x="611280" y="63244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2"/>
          <p:cNvSpPr/>
          <p:nvPr/>
        </p:nvSpPr>
        <p:spPr>
          <a:xfrm>
            <a:off x="3888360" y="0"/>
            <a:ext cx="95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685800" y="4724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762120" y="4724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533520" y="464832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he got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41148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ba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5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29:55Z</dcterms:created>
  <dc:creator/>
  <dc:description/>
  <dc:language>en-US</dc:language>
  <cp:lastModifiedBy>DOC23 MacBook Scholl</cp:lastModifiedBy>
  <cp:lastPrinted>2010-03-09T18:46:46Z</cp:lastPrinted>
  <dcterms:modified xsi:type="dcterms:W3CDTF">2011-03-14T17:33:20Z</dcterms:modified>
  <cp:revision>189</cp:revision>
  <dc:subject/>
  <dc:title>PowerPoint Presentation</dc:title>
</cp:coreProperties>
</file>